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1314113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45920" y="771480"/>
            <a:ext cx="5305320" cy="375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43000"/>
            <a:ext cx="49845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562F-E171-487C-9B44-B8FCC4B5BF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52720" y="937368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7385-ACA2-42C7-9C54-C777ADDEDC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52720" y="-360"/>
            <a:ext cx="29448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68240" y="744480"/>
            <a:ext cx="526572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8960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341120" y="167616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8960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341120" y="4343040"/>
            <a:ext cx="30963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6120" y="434304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6120" y="1676160"/>
            <a:ext cx="469296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343040"/>
            <a:ext cx="9617040" cy="2435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2761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932120" indent="-2764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2482920" indent="-274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680" y="3240"/>
            <a:ext cx="11284200" cy="7997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839600"/>
            <a:ext cx="11315880" cy="2087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Z ELSŐ SZINTŰ ELLENŐRZÉS ALAPJAI</a:t>
            </a:r>
            <a:br>
              <a:rPr sz="4000"/>
            </a:b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a Magyarország-Szlovákia Határon Átnyúló Együttműködés Programban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534960" y="4216320"/>
            <a:ext cx="11315520" cy="2160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Gordos Márt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Európai Együttműködési Programok Igazgatóság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Partneri szeminárium magyar partnerek részé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400" spc="-1" strike="noStrike">
                <a:solidFill>
                  <a:srgbClr val="006666"/>
                </a:solidFill>
                <a:latin typeface="Calibri"/>
              </a:rPr>
              <a:t>Budapest, 2012. október 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170840" y="471600"/>
            <a:ext cx="38894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3400" y="2199960"/>
            <a:ext cx="9617040" cy="3476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lanya: projekt partner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Dokumentum alap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partneri jelentés + számlák + alátámasztó dokumentum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Helyszíni ellenőrzé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a projekt élettartama során legalább egyszer (de kockázat-elemzés alapján lehetséges többször 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Eredménye: hitelesítési nyilatkozat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Időkorlát: 45 nap = jelentés ellenőrzése + max. 2 hiánypótlá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5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300" spc="-1" strike="noStrike">
                <a:solidFill>
                  <a:srgbClr val="008080"/>
                </a:solidFill>
                <a:latin typeface="Calibri"/>
              </a:rPr>
              <a:t>A jelentés benyújtásának NEM előfeltétele a társfinanszírozási szerződés aláírása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Jelentéstéte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38080" y="1676520"/>
            <a:ext cx="96170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lső szintű ellenőrzé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Másodszintű ellenőrzé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Egyéb ellenőrzések (ÁSZ, NH, EU Bizottság, stb.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14360" indent="-414360">
              <a:lnSpc>
                <a:spcPct val="100000"/>
              </a:lnSpc>
              <a:spcBef>
                <a:spcPts val="675"/>
              </a:spcBef>
              <a:buClr>
                <a:srgbClr val="008080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LLENŐRZÉSE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394840" y="1984320"/>
            <a:ext cx="1303200" cy="17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89760" y="4505400"/>
            <a:ext cx="180036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9400" y="4287960"/>
            <a:ext cx="2495520" cy="2985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442120" y="1479600"/>
            <a:ext cx="1944360" cy="179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697040" y="5153040"/>
            <a:ext cx="1790640" cy="167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9400" y="3063600"/>
            <a:ext cx="9617040" cy="8110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800" spc="-1" strike="noStrike">
                <a:solidFill>
                  <a:srgbClr val="008080"/>
                </a:solidFill>
                <a:latin typeface="Calibri"/>
              </a:rPr>
              <a:t>Köszönöm megtisztelő figyelmüket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57360" y="1598760"/>
            <a:ext cx="6400800" cy="4803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1588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040" y="0"/>
            <a:ext cx="10785600" cy="9367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SZEREPLŐ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905040"/>
            <a:ext cx="4895640" cy="58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FUNKCIÓK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Irányító Hatóság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(Managing Authority) 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/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Közös Technikai Titkárság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(</a:t>
            </a:r>
            <a:r>
              <a:rPr b="1" lang="en-US" sz="2500" spc="-1" strike="noStrike">
                <a:solidFill>
                  <a:srgbClr val="006666"/>
                </a:solidFill>
                <a:latin typeface="Calibri"/>
              </a:rPr>
              <a:t>Joint Technical Secretariat</a:t>
            </a:r>
            <a:r>
              <a:rPr b="1" lang="hu-HU" sz="2500" spc="-1" strike="noStrike">
                <a:solidFill>
                  <a:srgbClr val="006666"/>
                </a:solidFill>
                <a:latin typeface="Calibri"/>
              </a:rPr>
              <a:t> – JT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szerződé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vezető partnerrel a teljes projektre vonatkozó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rojekt szintű jelentések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ERFA forr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utófinanszírozás, VP felé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000" spc="-1" strike="noStrike">
                <a:solidFill>
                  <a:srgbClr val="3333cc"/>
                </a:solidFill>
                <a:latin typeface="Calibri"/>
              </a:rPr>
              <a:t>LEAD PARTNER / VEZETŐ PART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5040" y="905040"/>
            <a:ext cx="4896000" cy="5876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NEMZETI FUNKCIÓ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Hitelesítésre kijelölt szervezet</a:t>
            </a:r>
            <a:r>
              <a:rPr b="1" lang="hu-HU" sz="28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(First Level Control Body)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en-US" sz="2600" spc="-1" strike="noStrike">
                <a:solidFill>
                  <a:srgbClr val="006666"/>
                </a:solidFill>
                <a:latin typeface="Calibri"/>
              </a:rPr>
              <a:t>VÁTI Nonprofit </a:t>
            </a:r>
            <a:r>
              <a:rPr b="1" lang="hu-HU" sz="2600" spc="-1" strike="noStrike">
                <a:solidFill>
                  <a:srgbClr val="006666"/>
                </a:solidFill>
                <a:latin typeface="Calibri"/>
              </a:rPr>
              <a:t>Kf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társfinanszírozási szerződés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megkötése (és módosítása) a hazai partnerekk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partneri jelentések</a:t>
            </a:r>
            <a:r>
              <a:rPr b="1" lang="hu-HU" sz="2200" spc="-1" strike="noStrike">
                <a:solidFill>
                  <a:srgbClr val="006666"/>
                </a:solidFill>
                <a:latin typeface="Calibri"/>
              </a:rPr>
              <a:t> be- és elfogad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buClr>
                <a:srgbClr val="006666"/>
              </a:buClr>
              <a:buFont typeface="Calibri"/>
              <a:buChar char="-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 u="sng">
                <a:solidFill>
                  <a:srgbClr val="006666"/>
                </a:solidFill>
                <a:uFillTx/>
                <a:latin typeface="Calibri"/>
              </a:rPr>
              <a:t>hazai társfinanszírozás</a:t>
            </a:r>
            <a:r>
              <a:rPr b="1" i="1" lang="hu-HU" sz="2200" spc="-1" strike="noStrike">
                <a:solidFill>
                  <a:srgbClr val="006666"/>
                </a:solidFill>
                <a:latin typeface="Calibri"/>
              </a:rPr>
              <a:t> kifizetése (100% előleg, hazai partner felé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2200" spc="-1" strike="noStrike">
                <a:solidFill>
                  <a:srgbClr val="3333cc"/>
                </a:solidFill>
                <a:latin typeface="Calibri"/>
              </a:rPr>
              <a:t>PROJECT PARTNER / PROJEKT PART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7040" y="183960"/>
            <a:ext cx="10785600" cy="9363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FOLYAMATO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479600"/>
            <a:ext cx="4895640" cy="5302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HAZAI PARTN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ARTNERI JELENTÉS, </a:t>
            </a:r>
            <a:r>
              <a:rPr b="1" lang="hu-HU" sz="2400" spc="-1" strike="noStrike">
                <a:solidFill>
                  <a:srgbClr val="00cc99"/>
                </a:solidFill>
                <a:latin typeface="Calibri"/>
              </a:rPr>
              <a:t>HIÁNYPÓTLÁS(O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HITELESÍTÉS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NYILATKOZ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FLC (VÁTI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5400" y="1984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664400">
            <a:off x="3850560" y="1839600"/>
            <a:ext cx="1368360" cy="439272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768600 h 4392720"/>
              <a:gd name="textAreaBottom" fmla="*/ 318492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73760" y="1479600"/>
            <a:ext cx="4896000" cy="5302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PROJEKT SZINT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JELENTÉS</a:t>
            </a: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006666"/>
                </a:solidFill>
                <a:latin typeface="Calibri"/>
              </a:rPr>
              <a:t>HIÁNYPÓTLÁS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Calibri"/>
              </a:rPr>
              <a:t>ERFA KIFI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62840" y="2055960"/>
            <a:ext cx="1368360" cy="4679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79640"/>
              <a:gd name="textAreaBottom" fmla="*/ 3393000 h 46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186480" y="1768320"/>
            <a:ext cx="1368360" cy="468000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819000 h 4680000"/>
              <a:gd name="textAreaBottom" fmla="*/ 339300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1400" y="1479600"/>
            <a:ext cx="2016000" cy="28872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578480" y="1983960"/>
            <a:ext cx="2016000" cy="289080"/>
          </a:xfrm>
          <a:custGeom>
            <a:avLst/>
            <a:gdLst>
              <a:gd name="textAreaLeft" fmla="*/ 352800 w 2016000"/>
              <a:gd name="textAreaRight" fmla="*/ 1461600 w 2016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0411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600" spc="-1" strike="noStrike">
                <a:solidFill>
                  <a:srgbClr val="008080"/>
                </a:solidFill>
                <a:latin typeface="Calibri"/>
              </a:rPr>
              <a:t>A vezető partner (Lead Partner) kettős szere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073040" y="1768320"/>
            <a:ext cx="1295640" cy="79236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9280" y="1786320"/>
            <a:ext cx="1272960" cy="828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2847960"/>
            <a:ext cx="3529080" cy="2736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Calibri"/>
              </a:rPr>
              <a:t>HAZAI PARTNER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6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2700" spc="-1" strike="noStrike">
                <a:solidFill>
                  <a:srgbClr val="008080"/>
                </a:solidFill>
                <a:latin typeface="Arial"/>
              </a:rPr>
              <a:t>FLC (VÁTI)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21040" y="3568680"/>
            <a:ext cx="431640" cy="1152720"/>
          </a:xfrm>
          <a:prstGeom prst="upDownArrow">
            <a:avLst>
              <a:gd name="adj1" fmla="val 50000"/>
              <a:gd name="adj2" fmla="val 53164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78480" y="2921040"/>
            <a:ext cx="3168720" cy="2663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VEZETŐ PART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000" spc="-1" strike="noStrike">
                <a:solidFill>
                  <a:srgbClr val="006666"/>
                </a:solidFill>
                <a:latin typeface="Calibri"/>
              </a:rPr>
              <a:t>J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45400" y="3568680"/>
            <a:ext cx="433440" cy="1224000"/>
          </a:xfrm>
          <a:prstGeom prst="upDownArrow">
            <a:avLst>
              <a:gd name="adj1" fmla="val 50000"/>
              <a:gd name="adj2" fmla="val 5621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160" rIns="110160" tIns="55080" bIns="55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7040" y="184320"/>
            <a:ext cx="10785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6666"/>
                </a:solidFill>
                <a:latin typeface="Calibri"/>
              </a:rPr>
              <a:t>ERFA KIFIZETÉS IDŐIGÉNY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3400" y="1479600"/>
          <a:ext cx="9628200" cy="5208480"/>
        </p:xfrm>
        <a:graphic>
          <a:graphicData uri="http://schemas.openxmlformats.org/drawingml/2006/table">
            <a:tbl>
              <a:tblPr/>
              <a:tblGrid>
                <a:gridCol w="4815000"/>
                <a:gridCol w="1954080"/>
                <a:gridCol w="2859120"/>
              </a:tblGrid>
              <a:tr h="460440"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Lépése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Összesen idő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576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2808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jelentéstételi időszak vég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artneri jelentés benyújtása a VÁTI felé (P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1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0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hitelesítési nyilatkozat továbbítása 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2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továbbítása a JTS felé (VP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45 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projekt szintű jelentés jóváhagyás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5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144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110520" rIns="110520" tIns="55080" bIns="55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ERFA utalás elindítása VP felé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2808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30 nap (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144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110520" rIns="110520" tIns="55080" bIns="55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r>
                        <a:rPr b="1" lang="hu-HU" sz="2100" spc="-1" strike="noStrike">
                          <a:solidFill>
                            <a:srgbClr val="008080"/>
                          </a:solidFill>
                          <a:latin typeface="Calibri"/>
                        </a:rPr>
                        <a:t>6,5 hóna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10520" marR="110520">
                    <a:lnL w="1440">
                      <a:solidFill>
                        <a:srgbClr val="008080"/>
                      </a:solidFill>
                    </a:lnL>
                    <a:lnR w="28080">
                      <a:solidFill>
                        <a:srgbClr val="008080"/>
                      </a:solidFill>
                    </a:lnR>
                    <a:lnT w="1440">
                      <a:solidFill>
                        <a:srgbClr val="008080"/>
                      </a:solidFill>
                    </a:lnT>
                    <a:lnB w="2808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400" y="1768320"/>
            <a:ext cx="100807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49/2007. (III.26.) Korm. rendelet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és az Európai Szomszédsági és Partnerségi Eszköz pénzügyi alapok egyes, a területi együttműködéshez kapcsolódó programjaiból származó támogatások hazai felhasználásának intézményeiről</a:t>
            </a:r>
            <a:r>
              <a:rPr b="1" i="1" lang="hu-HU" sz="20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– 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kijelölő rendelet”</a:t>
            </a:r>
            <a:r>
              <a:rPr b="0" i="1" lang="hu-HU" sz="2400" spc="-1" strike="noStrike">
                <a:solidFill>
                  <a:srgbClr val="3333cc"/>
                </a:solidFill>
                <a:latin typeface="Calibri"/>
              </a:rPr>
              <a:t> VÁTI, mint hitelesítésre kijelölt szervezet Kormányrendelet :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„az 1080/2006/EK rendelet 16. cikkében foglalt feladat ellátásával megbízott szerv: a VÁTI Magyar Regionális Fejlesztési és Urbanisztikai Közhasznú Társaság (a továbbiakban: VÁTI Kht.)”</a:t>
            </a:r>
            <a:r>
              <a:rPr b="0" lang="hu-HU" sz="2000" spc="-1" strike="noStrike">
                <a:solidFill>
                  <a:srgbClr val="008080"/>
                </a:solidFill>
                <a:latin typeface="Calibri"/>
              </a:rPr>
              <a:t> (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3. b))</a:t>
            </a: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1" i="1" lang="hu-HU" sz="2400" spc="-1" strike="noStrike">
                <a:solidFill>
                  <a:srgbClr val="3333cc"/>
                </a:solidFill>
                <a:latin typeface="Calibri"/>
              </a:rPr>
              <a:t>160/2009. (VIII.3.) Korm. rendelet  </a:t>
            </a:r>
            <a:r>
              <a:rPr b="0" i="1" lang="hu-HU" sz="2000" spc="-1" strike="noStrike">
                <a:solidFill>
                  <a:srgbClr val="008080"/>
                </a:solidFill>
                <a:latin typeface="Calibri"/>
              </a:rPr>
              <a:t>a 2007-2013 programozási időszakban az Európai Regionális Fejlesztési Alap, valamint az Előcsatlakozási Támogatási Eszköz pénzügyi alapok egyes, a területi együttműködéshez kapcsolódó programjainak végrehajtásáró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„</a:t>
            </a:r>
            <a:r>
              <a:rPr b="0" i="1" lang="hu-HU" sz="2400" spc="-1" strike="noStrike" u="sng">
                <a:solidFill>
                  <a:srgbClr val="3333cc"/>
                </a:solidFill>
                <a:uFillTx/>
                <a:latin typeface="Calibri"/>
              </a:rPr>
              <a:t>lebonyolítási rendele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9617040" cy="51051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160/2009. (VIII.3.) Korm. rendelet IV. fejezet: A hazai szintű lebonyolítás részletes szabályai – ezen belül: Hitelesítés (20-22. pont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20. §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 A programok keretében megítélt közösségi támogatások és a hazai társfinanszírozás felhasználásának hitelesítése </a:t>
            </a:r>
            <a:r>
              <a:rPr b="1" i="1" lang="hu-HU" sz="1800" spc="-1" strike="noStrike">
                <a:solidFill>
                  <a:srgbClr val="009999"/>
                </a:solidFill>
                <a:latin typeface="Calibri"/>
              </a:rPr>
              <a:t>a hitelesítési tevékenységre jogszabály által kijelölt szervezet feladata</a:t>
            </a:r>
            <a:r>
              <a:rPr b="0" i="1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21. §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(1) A hitelesítés részeként a hitelesítési tevékenységre kijelölt szervezetnek gondoskodnia kell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a hazai partner által benyújtott valamennyi, a felmerült és a partner által kifizetett költséget alátámasztó dokumentum formai és tartalmi ellenőrzésének lefolytatásáról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2) A dokumentum alapú ellenőrzés keretében különösen a következőket kell ellenőrizni: (a) – 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A hitelesítés részeként a hitelesítési tevékenységre kijelölt szervezet köteles gondoskodni a közbeszerzésekről szóló 2003. évi CXXIX. törvény (a továbbiakban: Kbt.) és a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közbeszerzésekre vonatkozó</a:t>
            </a: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 közösségi rendelkezések 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előírásai teljesülésének ellenőrzésé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-34416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Font typeface="Calibri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800" spc="-1" strike="noStrike">
                <a:solidFill>
                  <a:srgbClr val="009999"/>
                </a:solidFill>
                <a:latin typeface="Calibri"/>
              </a:rPr>
              <a:t>(5) A hitelesítés részeként a hitelesítési tevékenységre kijelölt szervezetnek gondoskodnia kell a projektrészek megvalósításának</a:t>
            </a:r>
            <a:r>
              <a:rPr b="1" lang="hu-HU" sz="1800" spc="-1" strike="noStrike">
                <a:solidFill>
                  <a:srgbClr val="009999"/>
                </a:solidFill>
                <a:latin typeface="Calibri"/>
              </a:rPr>
              <a:t> helyszíni ellenőrzésé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40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44680" y="1336320"/>
            <a:ext cx="10153440" cy="54450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a) a hazai partner által benyújtott jelentésben szereplő 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költségek kifizetésre kerültek és számlákkal vagy egyéb, a gazdasági eseményt hitelesen dokumentál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bizonylattal megfelelően alátámasztotta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b) a benyújtott számlák vagy egyéb, a gazdasági eseményt hitelesen dokumentáló bizonylato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valós költségeken alapulna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, és a programok keretében jóváhagyott projekt kapcsán merültek f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c) a benyújtott számlán vagy egyéb, a gazdasági eseményt hitelesen dokumentáló bizonylaton szereplő teljesítés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összhangban van a pályázatra vonatkozó döntéssel és a támogatási szerződéss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d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 költségek elszámolható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a programok keretében meghatározott elszámolhatósági szabályoknak megfelelően, a közösségi és hazai jogszabályokkal összhangban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e) a költségeket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alátámasztó dokumentumok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teljes körűek, formai és tartalmi szempontból megfelelőe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f) a hazai partner az összes projekttevékenységre vonatkozóan megfelelő és megbízható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tartási rendszerrel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rendelkezik, azaz a szükséges ellenőrzési nyomvonal létezik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g) az Alapokból származó támogatás, illetve a hazai társfinanszírozás felhasználása során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em történt szabálytalanság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h)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ettős finanszírozás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 nem valósul meg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i) a benyújtott bizonylatok, dokumentumok alapján megállapítható, hogy az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állami támogatásokkal, a környezetvédelemmel, az esélyegyenlőséggel és a fenntartható fejlődéssel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kapcsolatos követelményeke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j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nyilvánosságra és tájékoztatásra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k) a benyújtott bizonylatok, dokumentumok alapján megállapítható, hogy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közbeszerzésekre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vonatkozó közösségi és nemzeti szabályokat betartották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l) a projektek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ámogatási szerződéseknek megfelelő</a:t>
            </a:r>
            <a:r>
              <a:rPr b="1" lang="hu-HU" sz="1600" spc="-1" strike="noStrike">
                <a:solidFill>
                  <a:srgbClr val="009999"/>
                </a:solidFill>
                <a:latin typeface="Calibri"/>
              </a:rPr>
              <a:t> fizikai és pénzügyi előrehalad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Calibri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m) a </a:t>
            </a:r>
            <a:r>
              <a:rPr b="1" lang="hu-HU" sz="1600" spc="-1" strike="noStrike" u="sng">
                <a:solidFill>
                  <a:srgbClr val="009999"/>
                </a:solidFill>
                <a:uFillTx/>
                <a:latin typeface="Calibri"/>
              </a:rPr>
              <a:t>teljesítés igazolását</a:t>
            </a:r>
            <a:r>
              <a:rPr b="0" lang="hu-HU" sz="1600" spc="-1" strike="noStrike">
                <a:solidFill>
                  <a:srgbClr val="009999"/>
                </a:solidFill>
                <a:latin typeface="Calibri"/>
              </a:rPr>
              <a:t>.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33400" y="255240"/>
            <a:ext cx="9617040" cy="10414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1" lang="hu-HU" sz="3900" spc="-1" strike="noStrike">
                <a:solidFill>
                  <a:srgbClr val="009999"/>
                </a:solidFill>
                <a:latin typeface="Calibri"/>
              </a:rPr>
              <a:t>Első szintű ellenőrzés – jogszabályi alapok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682120" y="6867360"/>
            <a:ext cx="22334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13:57:28Z</dcterms:created>
  <dc:creator>vati user</dc:creator>
  <dc:description/>
  <dc:language>en-US</dc:language>
  <cp:lastModifiedBy>SzucsJulia</cp:lastModifiedBy>
  <dcterms:modified xsi:type="dcterms:W3CDTF">2012-10-18T07:07:10Z</dcterms:modified>
  <cp:revision>190</cp:revision>
  <dc:subject/>
  <dc:title>1. dia</dc:title>
</cp:coreProperties>
</file>